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5A2001D9-6066-4BF6-BF52-38DB087013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30160"/>
            <a:ext cx="77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5193c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5193c"/>
              </a:solidFill>
              <a:latin typeface="Arial"/>
            </a:endParaRPr>
          </a:p>
          <a:p>
            <a:pPr lvl="2" marL="914400" indent="38160" algn="ctr">
              <a:lnSpc>
                <a:spcPts val="26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ransparentnost.org.rs/" TargetMode="External"/><Relationship Id="rId2" Type="http://schemas.openxmlformats.org/officeDocument/2006/relationships/hyperlink" Target="http://www.transparentnost.org.r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 u="sng">
                <a:solidFill>
                  <a:srgbClr val="ff99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GB" sz="2000" spc="-1" strike="noStrike" u="sng">
                <a:solidFill>
                  <a:srgbClr val="ff9900"/>
                </a:solidFill>
                <a:uFillTx/>
                <a:latin typeface="Arial"/>
                <a:hlinkClick r:id="rId2"/>
              </a:rPr>
              <a:t>transparentnost.org.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0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Bivše socijalističke zemlje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 Evrop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e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t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đar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ešk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a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to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rvat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uz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rna Gora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ga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rbija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3.5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rme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rus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kr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s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60280"/>
            <a:ext cx="824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9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68360" y="1197000"/>
          <a:ext cx="8207280" cy="4672080"/>
        </p:xfrm>
        <a:graphic>
          <a:graphicData uri="http://schemas.openxmlformats.org/drawingml/2006/table">
            <a:tbl>
              <a:tblPr/>
              <a:tblGrid>
                <a:gridCol w="573120"/>
                <a:gridCol w="1179360"/>
                <a:gridCol w="576360"/>
                <a:gridCol w="693720"/>
                <a:gridCol w="690480"/>
                <a:gridCol w="692280"/>
                <a:gridCol w="690480"/>
                <a:gridCol w="692280"/>
                <a:gridCol w="690480"/>
                <a:gridCol w="690480"/>
                <a:gridCol w="1038240"/>
              </a:tblGrid>
              <a:tr h="137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a</a:t>
                      </a:r>
                      <a:r>
                        <a:rPr b="1" i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Zeml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200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k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j 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raživanj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CPI 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99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love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Hrvat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rna Gor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SCG 2000 – 20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akedo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rbija (SCG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000-2006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</a:t>
                      </a:r>
                      <a:r>
                        <a:rPr b="1" lang="sr-Latn-C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i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Evolucija Srbije (SCG 2003-2009) na skali CPI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92000" y="1523880"/>
          <a:ext cx="374832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1523880"/>
                    <a:ext cx="374832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724280" y="1733400"/>
          <a:ext cx="3810240" cy="1752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733400"/>
                    <a:ext cx="381024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1704960" y="1994040"/>
          <a:ext cx="5829480" cy="35082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04960" y="1994040"/>
                    <a:ext cx="5829480" cy="35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PI 2009 - mapa svet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20908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akcije na dosadašnja rangira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54160" indent="-2541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aci iz 2000-te: suočavanje sa katastrofalnom slikom o Srb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3: Očekivan veći pomak na listi, ali se percepcija sporo m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4: Napravljen novi pomak – približavanje realnom stanju stv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00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2007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Zadržan minimalan trend rasta – nema radikalnih promena koje bi dovele do brze promene percepcije koru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nac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prvi put nema ni minimalnog napretka, druge zemlje nas sustižu i prestiž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imboličan napred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 2009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emlje mogu da ignorišu rezultate CPI samo na svoju štetu – čak i ako ne odražava u potpunosti realno stanje stvari, CPI je dobar pokazatelj onoga šta drugi misle o nama – nema mesta zadovoljstvu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tisak o visokoj korumpiranosti imaju i građani Srbije, što proizlazi iz rezultata istraživanja koja se vrše na nacionalnom uzorku (npr. Globalni barometar korup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Teme za razmišljan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0080" indent="0" algn="just">
              <a:lnSpc>
                <a:spcPts val="2699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itanja koja treba sami sebi da postavimo kada se pitamo da li je utisak o nama mogao da bude bolj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mamo li osmišljen plan za suzbijanje i smanjivanje korupcije i da li ga sprovodi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mamo li dovoljno snažne, obučene i opremljene institucije za borbu protiv korupcij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popunjavamo “rupe u zakonima” kada postanu uočlj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overavamo li da li novi propisi i odluke državnih organa otvaraju nove mogućnosti za korupcij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se odluke i preporuke nezavisnih kontrolora uvažavaju ili ignoriš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ristimo li rezultate spoljnog monitoringa (npr. izveštaje EK) kao zamajac antikorupcijskih reformi ili umanjujemo probleme na koje nam ukazuju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je proces donošenja odluka podvrgnut javnoj kontroli a diskreciona ovlašćenja svedena na neophodni minim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 algn="just">
              <a:lnSpc>
                <a:spcPts val="2699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se zakonska prinuda primenjuje uvek i jednako u jednakim situacijama ili selektivn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81480" y="838080"/>
            <a:ext cx="3962160" cy="4876920"/>
            <a:chOff x="5181480" y="838080"/>
            <a:chExt cx="3962160" cy="4876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181480" y="83808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37440" y="83808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521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ri stepen u ko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m se opaža korumpiranost javnih službenika i političa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se sačinjava na osnovu 13 različitih istraživanja i studija, koje je sprovelo 1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0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nezavisnih institucija ispitujući preduzetnike, analitičare i lokalne stručnj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Indeks percepcije korupcije za 20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PI 200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9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- Najbolji i naj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o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š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ij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16000" y="1341360"/>
          <a:ext cx="7128000" cy="2166840"/>
        </p:xfrm>
        <a:graphic>
          <a:graphicData uri="http://schemas.openxmlformats.org/drawingml/2006/table">
            <a:tbl>
              <a:tblPr/>
              <a:tblGrid>
                <a:gridCol w="1747800"/>
                <a:gridCol w="1744560"/>
                <a:gridCol w="1746360"/>
                <a:gridCol w="1889280"/>
              </a:tblGrid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 (0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 istra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i Ze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ap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d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403280" y="3645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836640"/>
            <a:ext cx="70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epirane kao najmanje korumpi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16000" y="4149720"/>
          <a:ext cx="7127640" cy="2518920"/>
        </p:xfrm>
        <a:graphic>
          <a:graphicData uri="http://schemas.openxmlformats.org/drawingml/2006/table">
            <a:tbl>
              <a:tblPr/>
              <a:tblGrid>
                <a:gridCol w="933480"/>
                <a:gridCol w="2170800"/>
                <a:gridCol w="2072520"/>
                <a:gridCol w="1950840"/>
              </a:tblGrid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 (0-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. istraž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a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d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nis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ali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unapredi komparativno razumevanje nivoa korup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ponudi presek viđenja donosilaca odluka koje utiču na trgovinu i investi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Metodolog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CPI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 “istraživanje grupe istraživanja” koje se odvija iz godine u godinu i pruža podatke koji se mogu kontinuirano pratiti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Minimum 3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a po zemlji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e pokriva prethodne </a:t>
            </a: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 godine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Zemlje se boduju na skali o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1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 ‘čiste’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o 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mpirane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spituje se percepcija (opažanje) a ne činjenice (npr. broj osuda, broj tekstova u mediji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pcija određena kao “zloupotreba javnih ovlašćenja za privatnu korist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Mogućnost poređe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predstavlja presek viđenja poslovnih ljudi i analitičara  prilika u pojedinim zemljama i ne odražava nužno trendove za pojedine god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Skor je relevantniji od mesta na tabeli (zato što se ponekada menja broj država koje su uključene). U 2009 je broj država ostao isti kao u 2008 (jedna nova je uključena i jedna stara isključena), tako da je moguće vršiti i poređenja ove vrst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Promene indeksa kod pojedinih država mogu biti rezultat promene uzorka – istraživanja koja su uzeta u obzir pri sačinjavanju indek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Nedostaci i prednost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Nedostac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Indeks ne odražava stepen napora uloženih u borbi protiv korup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u razvoju mogu biti prikazane u lošijem svetlu usled pristrasnosti i predubeđenja stranih investitora (zato postoje i druga sredstva za merenje korupci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Pred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I druga sredstva za procenu korupcije dovode do sličnih rezultata kao i C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CPI je dobra šansa da se unapredi javna rasprava o korupc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CPI je dobar podsticaj za sprovođenje daljih ana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66"/>
                </a:solidFill>
                <a:latin typeface="Arial"/>
              </a:rPr>
              <a:t>CPI obuhvata gotovo sve države sv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Metodološke napomene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5564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bij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obuhvaćena 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traživanja koja su uzeta u obzir pri sačinjavanju inde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raživanja objavljena tokom 2008 i 2009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ngiranje po pojedinim istraživanjima kreće se od 3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na devijacija u prihvatljivim granicama (0,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 podataka u inicijalnim istraživanjima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relevantnim za Srbiju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1557360"/>
          <a:ext cx="8101080" cy="5006880"/>
        </p:xfrm>
        <a:graphic>
          <a:graphicData uri="http://schemas.openxmlformats.org/drawingml/2006/table">
            <a:tbl>
              <a:tblPr/>
              <a:tblGrid>
                <a:gridCol w="844560"/>
                <a:gridCol w="2751120"/>
                <a:gridCol w="4505400"/>
              </a:tblGrid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ora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H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edom House, Nations in Transi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žanja nerezidenat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itanici uglavnom potiču iz razvijenih zemalj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telsmann Foundatio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U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onomist Intelligence Uni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Risk Service by IHS Global Insight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čnjaci angažovani od strane bank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institucije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F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petitiveness Report of the World Economic Forum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žanja rezidenata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pitanici su uglavnom lokalni stručnjaci, lokalni poslovni ljudi i multinacionalne fir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Kancelarija</cp:lastModifiedBy>
  <cp:lastPrinted>2001-02-20T16:28:36Z</cp:lastPrinted>
  <dcterms:modified xsi:type="dcterms:W3CDTF">2010-07-19T12:49:07Z</dcterms:modified>
  <cp:revision>24</cp:revision>
  <dc:subject/>
  <dc:title>Slide 1</dc:title>
</cp:coreProperties>
</file>